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7F6-43C9-4E85-88F8-9C3AAB38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B9E-EFEC-47F2-B331-404D8EB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3BD-6C31-4FF4-8FF0-19869C66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AEB-B623-429A-BC07-7AFCC095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267-029D-4508-85AD-E3454E8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5E0-5C1E-49EF-9189-B8622DC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B13-3A21-4517-91E0-9B8BCC2F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018-89B5-4E54-B256-4E6E136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2BE-4449-444B-AC02-8BF98F45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A1D-CA2B-4FE7-AFE2-306FC92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86B-43EF-420D-9033-8497673C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0F4-9BF2-4D30-84F9-689D122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8D8D-0A27-4AF8-ABE5-99A933ADB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5 Tebe, Pane, odovzd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be, Pane, odovzd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verím život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ieni každej dávaš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íšiš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ďku žitia môjho 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úrnym morom útrap, bi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brehom mieru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už vier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á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boj krutý neraz nú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eniť plavby sm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tvojho Slova čujem znov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boj sa, len 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ma tiesni nástrah s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už sily vo mne ni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ou Slova nádej no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áva viere vzl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 spásy cieľu,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rak svoj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de je čistá radosť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 svoj domov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láskou prijmi biedn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yna márnotratné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ťa chváliť, vďačne slá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a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ého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22:30Z</dcterms:modified>
  <cp:revision>22</cp:revision>
  <dc:subject/>
  <dc:title>Je veľký náš Pán, on slávy je Kráľ Nech do všetkých strán  spev vrúcnych znie chvál.</dc:title>
</cp:coreProperties>
</file>